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6A2-BF30-4C63-BC84-ED44FAA9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4D17-2C47-46E3-8DA8-11177E77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665-95DE-4CE9-929A-E3583ACF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552-4C16-493E-9541-3EA8FD77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BF08-DF42-4DE4-ACDD-359DA340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6685-4888-461F-A04E-D6ECE064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8D41-FAFA-4C39-A3A6-48CAC01B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CFB9-D65D-46A1-A115-8675DB73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7820-3B41-406F-8554-7B31D191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9881-3C8E-4CE9-AE18-C4564AC3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6EDE-0B1C-4B7A-B8E9-996A8D12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EDC-DC92-43DA-987D-CD3C9E60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9A53-2281-4AA0-A3AC-FC853CCA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8AC1-9D72-40D1-95B7-F37577EB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FE9C-EE3E-4FA6-9529-509580AF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2BC9-8AA5-4B1A-A26E-AA00A308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5CE4-FDE8-4953-900E-B7627FD9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9C2-86CF-4552-A34C-1497D219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F5A-5E6D-439A-9181-623F20A8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3B5-2897-47BC-8365-E1CA569D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59B-82FC-4F8C-928F-60EC4D6A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FD2-9D8D-4AC2-AD23-39E265CD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66E-030A-4920-A27E-3B94EC55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242-1797-4527-81F3-FA973CF3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2859-67F0-443F-8910-D6EA165B348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7E06-43D9-4275-83A7-414EA59FD0F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8: Statistics and Probabil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jective:  Students will create and interpret frequency tab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Objective: Objective:  Students will create and interpret frequency tabl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equency tabl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sts the number of times each item occurs in a set of dat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How to make a frequency tab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) (gather data) You do a survey of 15 kids in class to see what their favorite colors are. The results are: 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yellow, blue, blue, red, orange, pink, pink, pink, blue, green, orange, yellow, red, red, blu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) Next make a chart putting the choices on the side, a place to make tallies and a place to total up the tallies (called the frequenc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23880" y="3809880"/>
          <a:ext cx="6400800" cy="276696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ll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 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n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ake a frequency table of the data then tell which item(s) occur most often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siblings each student has: 1, 4, 3, 3, 2, 1, 1, 1, 1, 1, 2, 1, 2, 3, 2, 1, 2, 1, 1,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ake a frequency table of the data then tell which item(s) occur most often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basketball team has 4 main positions: Point guard (pg), guard (g), Forward (f) and center (c). There were 20 girls who tried out, they played the following position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, g, pg, f, f, g, g, g, g, f, c, f, c, c, g, f, f, c, g, g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bjective: Objective:  Students will create and interpret frequency tab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last frequency table you mad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osition was most popular amongst the basketball players? Explain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many more players are guards than cente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ass Surv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5 minutes to survey the people in our class asking them the two questio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the data you collected to create a frequency ta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equency Table BC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27:53Z</dcterms:created>
  <dc:creator>TAMMY  COON</dc:creator>
  <dc:description/>
  <dc:language>en-US</dc:language>
  <cp:lastModifiedBy>ccps</cp:lastModifiedBy>
  <dcterms:modified xsi:type="dcterms:W3CDTF">2010-03-02T19:16:10Z</dcterms:modified>
  <cp:revision>9</cp:revision>
  <dc:subject/>
  <dc:title>Opener</dc:title>
</cp:coreProperties>
</file>